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9B47A-BB59-4AFC-BA45-EDA28CF253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CA3-4DDF-413A-81C3-8931F964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C5A-DE81-4EB9-BF31-9075ED48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3B57-E411-4BAB-85A1-7D4CE852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FE95-9945-4494-88DD-53B115F9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991-7525-488C-88B3-384F81B2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A65-A0EB-401D-9E68-0D67F68C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0B1-9318-4B10-B0FC-AC6B75B7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398-1575-4C2F-A9FD-7B53BC2F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EE2-7581-46C5-BFB9-B6DC9648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AE52-2163-4161-AEEA-747CDA3C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611-4B70-4A0C-90F0-83D642D0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CB5-9CFC-4B21-A890-014D9C43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DD0D1-DFA7-4A89-8992-5D0D8BDE4A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1554120"/>
            <a:ext cx="82407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(OBO) ontology is NOT a model of language, it is a model of re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ds are ambiguous – especially in isolation. Take the word 'wing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what type of things have win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14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birds, bats, flies, sphenoid bones*, planes, car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(OBO) ontology uses words from natural languag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but constrains their meaning to some subset of their possible meanings in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aints are written into definitions and relationships between terms and refer to the scientific lit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 the lateral process of a sphenoid bone is referred to as a wing (Henderson's dictionary biological terms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BO foundry approach to ontology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20720" y="539640"/>
            <a:ext cx="864072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y standardise the way we build anatomy ontologi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we don't all need to re-invent the wh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common relations allows the development of common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st practice allows development of scalable and maintainable ont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Written definitions make the reasons for graph structure cl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764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=&gt; New editors can understand and build on the work of previous edi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Reducing multiple inheritance makes ontologies makes avoiding true-path violations practic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7440" y="561960"/>
            <a:ext cx="9053280" cy="79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RO is a standardisation exerc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 provides an upper-ontology template to use for constructing anatomy ont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 provides a bridge between anatomy ontologies and the basic formal ontology (BFO).  This is useful for putting constraints on re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natomical structure maps to BFO: object  and as such is defined as 'maximally connected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14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distinction makes part relationships easier to define and avoids confusion with is_a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142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14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isconnected anatomical systems (e.g., immune system) are classified under 'anatomical group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79640" y="900000"/>
            <a:ext cx="885960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 is a purely structural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ARO classifies structures from the bottom up – on the basis of granular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ell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portion of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multi-tissue structure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ARO classifies structure from the top down – as subdivisions of a whole orga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orga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ppend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ARO makes a clear distinction between cellular and acellular struct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O associated standard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1. A system for defining structures by their developmental f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2. A system for recording developmental tim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3. A system for recording part relationships which change over developmenta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0720" y="506520"/>
            <a:ext cx="86407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39640"/>
            <a:ext cx="80996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build multi-species  anatomy ontologi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We need systems for cross species inference of gen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do we need for infer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e development, differentiation of functioning of homolgous structures is likely to involve conserved genetic pathways – especially if the species are closely re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319640" y="7148520"/>
            <a:ext cx="57592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e Niswander Nature Reviews Genetics 4, 133-143 (February 2003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19280" y="1800360"/>
            <a:ext cx="6480000" cy="4679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69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servation of gene expression and role in limb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27807" t="6670" r="33749" b="50008"/>
          <a:stretch/>
        </p:blipFill>
        <p:spPr>
          <a:xfrm>
            <a:off x="5181480" y="3236760"/>
            <a:ext cx="2210040" cy="1868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3711600" cy="2039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152280"/>
            <a:ext cx="8186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y do we care about homology when building an anatomy ontolog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98640" y="990720"/>
            <a:ext cx="52074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Consider an anatomy ontology of vertebr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anial 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ietal bone (in_organism huma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ietal bone (in_organism zebrafis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ntal bone (in_organism huma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ntal bone (in_organism zebrafish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272200"/>
            <a:ext cx="754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mologous : frontal bone (zebrafish) and parietal bone (huma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60960" y="3421080"/>
            <a:ext cx="24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3693960"/>
            <a:ext cx="30492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3421080"/>
            <a:ext cx="2286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7000" y="3693960"/>
            <a:ext cx="416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5791320"/>
            <a:ext cx="74833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ifferent genes and developmental processes may underlie the development of the zebrafish frontal and the human frontal, even though they have the same name and are similarly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0" y="3268800"/>
            <a:ext cx="609480" cy="533160"/>
            <a:chOff x="4572000" y="3268800"/>
            <a:chExt cx="609480" cy="533160"/>
          </a:xfrm>
        </p:grpSpPr>
        <p:sp>
          <p:nvSpPr>
            <p:cNvPr id="106" name=""/>
            <p:cNvSpPr/>
            <p:nvPr/>
          </p:nvSpPr>
          <p:spPr>
            <a:xfrm>
              <a:off x="4572000" y="3268800"/>
              <a:ext cx="609480" cy="53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648320" y="3373200"/>
              <a:ext cx="457200" cy="314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58840" y="3944880"/>
            <a:ext cx="73310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and where should homology information be cap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97000" y="1085760"/>
            <a:ext cx="72547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case: Query for phenotypes affecting the human frontal bone and its homologous structure in other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35160" y="3009960"/>
            <a:ext cx="3574800" cy="547200"/>
            <a:chOff x="3035160" y="3009960"/>
            <a:chExt cx="3574800" cy="547200"/>
          </a:xfrm>
        </p:grpSpPr>
        <p:sp>
          <p:nvSpPr>
            <p:cNvPr id="111" name=""/>
            <p:cNvSpPr/>
            <p:nvPr/>
          </p:nvSpPr>
          <p:spPr>
            <a:xfrm>
              <a:off x="3035160" y="3009960"/>
              <a:ext cx="35748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omolog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ynony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678200" y="3170160"/>
              <a:ext cx="222480" cy="306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69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should we not build multi-species anatomy ontologie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849320"/>
            <a:ext cx="846000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ot practical to write structural definitions which apply across many species and which apply to every structure in a homology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-  try to define parietal bone for all descendants of the common ancestor of zebrafish and hu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69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should we not build multi-species anatomy ontologie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979640"/>
            <a:ext cx="846000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uctural defs across many species may sometimes be imposs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Structure Z def: Anatomical entity with structural attributes, A, B, C and 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Structure X def: Anatomical entity with structural attributes C, D, E &amp; 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evolved_from structure 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Structure Y def: Anatomical entity with structural attributes A, B, G &amp; 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evolved_from structure 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BO foundry approach to ontology-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6600" y="1440000"/>
            <a:ext cx="85723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 with relying on the 'self-evident' meaning of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no definitions for the nouns, these two statements both have obvious readings which ar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 eye part of craniofacial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ommatidium part of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, if we combine th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matidium part of eye part of craniofacial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we can't get a true statement about biology, no matter what meaning we choose for the nou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ontology with thousands of terms and relations makes an enormous number of statements. Only by defining terms can we hope to avoid problems like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1640" y="5940360"/>
            <a:ext cx="181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79640" y="900000"/>
            <a:ext cx="75596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27807" t="6670" r="33749" b="50008"/>
          <a:stretch/>
        </p:blipFill>
        <p:spPr>
          <a:xfrm>
            <a:off x="5686560" y="5397480"/>
            <a:ext cx="2209680" cy="1868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343160" y="5361120"/>
            <a:ext cx="3711600" cy="203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665680" y="5581800"/>
            <a:ext cx="24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33520" y="5854680"/>
            <a:ext cx="30492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05320" y="5581800"/>
            <a:ext cx="2286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21720" y="5854680"/>
            <a:ext cx="416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076720" y="5429160"/>
            <a:ext cx="609840" cy="533520"/>
            <a:chOff x="5076720" y="5429160"/>
            <a:chExt cx="609840" cy="533520"/>
          </a:xfrm>
        </p:grpSpPr>
        <p:sp>
          <p:nvSpPr>
            <p:cNvPr id="125" name=""/>
            <p:cNvSpPr/>
            <p:nvPr/>
          </p:nvSpPr>
          <p:spPr>
            <a:xfrm>
              <a:off x="5076720" y="5429160"/>
              <a:ext cx="60984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153040" y="5533560"/>
              <a:ext cx="457200" cy="314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240" y="-360"/>
            <a:ext cx="9069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 definition of hom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1720" y="554364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462800" y="5510160"/>
            <a:ext cx="341280" cy="27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83640" y="5364000"/>
            <a:ext cx="333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6120" y="1117440"/>
            <a:ext cx="65005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instances of structure X part_of some instance of specie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instances of structure Y part_of some instance of specie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instances of structure Z part_of some instance of specie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 is homologous_t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X derived_from some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Y derived_from some Z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is the most recent common ancestor of A and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4319640"/>
            <a:ext cx="320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340000" y="4497480"/>
            <a:ext cx="1619280" cy="1085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676400" y="4495680"/>
            <a:ext cx="2706840" cy="72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68360" y="4694400"/>
            <a:ext cx="1511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d_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68360" y="4694400"/>
            <a:ext cx="1511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d_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29440" y="4500720"/>
            <a:ext cx="1511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d_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term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02920" y="1372680"/>
            <a:ext cx="90694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forewing (MRCA Insect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ef: Membranous dorsal appendage of adult mesothoracic segment of MRCA Ins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hindwing (MRCA Insect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ef: Membranous dorsal appendage of the adult metathoracic segment of MRCA Ins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elytra (MRCA Coleopter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ef: Hard, chitinous dorsal appendage of adult mesothoracic segment of MRCA Coleo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haltere (MRCA Dipter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ef: club shaped dorsal appendage of the metathoracic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of MRCA Di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6040" y="6880320"/>
            <a:ext cx="6645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CA = most recent common ancesto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20720" y="1979640"/>
            <a:ext cx="8280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endage (CARO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_a wing of MRCA Insec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_a forewing of MRCA Insec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wing of MRCA Di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elytra of MRCA Coleo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_a hindwing of MRCA insec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haltere of MRCA Di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wing (alae) of MRCA Coleo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_a limb of MRCA tetrapo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_a forelimb of MRCA tetrapo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wing of MRCA 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wing of MRCA Chiroptera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CA = most recent common ancesto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*? perhaps should be derived_from autopod?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360000"/>
            <a:ext cx="9069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homology based multi-species anatomy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3560" y="1260360"/>
            <a:ext cx="84168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ations within species specific anatomy ont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ing (Drosophila melanogaster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 from wing of Diptera MR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ytra (Tribolium casteneum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elytra of coleoptera MR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bined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ewing of MRCA Insec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derived_from wing of MRCA Di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derived_from elytra of MRCA Coleo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sufficient to deduc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ytra of Tribolium catene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mologous_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ing of Drosophila melanog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000" y="8892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soning hom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0360" y="1260360"/>
            <a:ext cx="82296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chael Ashbu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Fabian Neuhaus (NIST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Paula MaBee (U S.Dakota /cTOL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Jose Mejino (U Washington, FMA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hris Mungall (Berkeley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Melissa Haendel (U Oregon, ZFIN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Barry Smith (Buffalo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FlyBase; The Newton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681200" y="1619280"/>
          <a:ext cx="678024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1619280"/>
                    <a:ext cx="67802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935440" y="100080"/>
            <a:ext cx="82562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erms in the Danio AO refer to man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volutionarily conserved structu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71640" y="612720"/>
            <a:ext cx="828036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names of terms in this anatomy ontology refer, in normal usage, to many conserved anatomical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 the terms themselves refer to whatever their definitions say they refer to  - this is considerably more restrictive than normal u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2374920" y="1847880"/>
            <a:ext cx="4038480" cy="23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27200" y="1898640"/>
            <a:ext cx="1905120" cy="11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79440" y="722160"/>
            <a:ext cx="2149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bian’s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55800" y="212724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27600" y="212724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760" y="1935000"/>
            <a:ext cx="64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560" y="1935000"/>
            <a:ext cx="991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73440" y="3360600"/>
            <a:ext cx="1573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b-like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13000" y="357516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113440" y="2432160"/>
            <a:ext cx="1380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35120" y="2660760"/>
            <a:ext cx="1499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s_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8440" y="2279520"/>
            <a:ext cx="533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36840" y="4071960"/>
            <a:ext cx="609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07160" y="2813040"/>
            <a:ext cx="1499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s_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5560" y="4351320"/>
            <a:ext cx="41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is_homologous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08600" y="1554120"/>
            <a:ext cx="61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91320" y="1865160"/>
            <a:ext cx="674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7840" y="4870440"/>
            <a:ext cx="21556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omology grou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b-like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d-wing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d-forelimb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4200" y="5135400"/>
            <a:ext cx="35971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, what type of thing is a limb-like th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92200" y="6281640"/>
            <a:ext cx="56134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 – MRCA 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: The forelimb of the most recent common ancestor of the tetrapoda.  (attributes ....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60360" y="1979640"/>
            <a:ext cx="772632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roaches to recording homology -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Capture pairw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in species A homologous_to Y in specie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advantage – homology of X and Y to structures in species C, D, E F 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st be captured separately =&gt; v. many homology sta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Capture with reference to some central multi-species ontolog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is_a fore-limb 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derives_from fore-limb MRCA 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70000"/>
            <a:ext cx="9069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O 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1640" y="1649520"/>
            <a:ext cx="469908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a classification of things 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in the real world, based on some biologically significant similarity (specified by definition + relationship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24360" y="971640"/>
            <a:ext cx="35816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00000" y="969840"/>
            <a:ext cx="738036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s of term ambigu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rly stages in spermat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ineuri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 flipV="1">
            <a:off x="2590920" y="1283760"/>
            <a:ext cx="4038480" cy="23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1335240"/>
            <a:ext cx="1905120" cy="11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3600" y="380880"/>
            <a:ext cx="1421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vid’s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156384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156384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16400" y="1371600"/>
            <a:ext cx="64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88560" y="1371600"/>
            <a:ext cx="991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9440" y="2797200"/>
            <a:ext cx="5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3011400"/>
            <a:ext cx="380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566960" y="1868400"/>
            <a:ext cx="21430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70120" y="2097000"/>
            <a:ext cx="5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7161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3621240"/>
            <a:ext cx="609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41920" y="2325600"/>
            <a:ext cx="5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81560" y="3787920"/>
            <a:ext cx="41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is_homologous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24600" y="990720"/>
            <a:ext cx="61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91320" y="762120"/>
            <a:ext cx="674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98760" y="4381560"/>
            <a:ext cx="27777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omology group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s_a wing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s_a forelimb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32520" y="4411800"/>
            <a:ext cx="33523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ARO/other structural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dinal organism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s_a append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17480" y="3011400"/>
            <a:ext cx="1143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25360" y="5742000"/>
            <a:ext cx="69609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 – 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: An anatomical structure derived from the 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most recent common ancestor of the tetrapoda (attributes...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flipV="1">
            <a:off x="2590920" y="1208160"/>
            <a:ext cx="4038480" cy="23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1258920"/>
            <a:ext cx="1905120" cy="11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82680" y="457200"/>
            <a:ext cx="3871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sh group idea (may not be current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14875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14875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16400" y="1295280"/>
            <a:ext cx="64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88560" y="1295280"/>
            <a:ext cx="991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84520" y="2935440"/>
            <a:ext cx="5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308772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58960" y="4002120"/>
            <a:ext cx="5010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is_homologous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elimb as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is_homologous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as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NOT homologous_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as 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24600" y="914400"/>
            <a:ext cx="61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91320" y="685800"/>
            <a:ext cx="674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68520" y="1682640"/>
            <a:ext cx="2057400" cy="125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8240" y="1301760"/>
            <a:ext cx="560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179244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7640" y="1643040"/>
            <a:ext cx="64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109760" y="1487520"/>
            <a:ext cx="16095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41720" y="954000"/>
            <a:ext cx="1738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mologous_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052720" y="1563840"/>
            <a:ext cx="92376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84320" y="1639800"/>
            <a:ext cx="1738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mologous_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98880" y="5029200"/>
            <a:ext cx="2629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ARO/multi-species 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end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-wing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-wing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-forelimb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5791320"/>
            <a:ext cx="761760" cy="533160"/>
          </a:xfrm>
          <a:custGeom>
            <a:avLst/>
            <a:gdLst/>
            <a:ahLst/>
            <a:rect l="l" t="t" r="r" b="b"/>
            <a:pathLst>
              <a:path w="248" h="240">
                <a:moveTo>
                  <a:pt x="0" y="0"/>
                </a:moveTo>
                <a:cubicBezTo>
                  <a:pt x="116" y="52"/>
                  <a:pt x="232" y="104"/>
                  <a:pt x="240" y="144"/>
                </a:cubicBezTo>
                <a:cubicBezTo>
                  <a:pt x="248" y="184"/>
                  <a:pt x="80" y="224"/>
                  <a:pt x="4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5943600"/>
            <a:ext cx="4876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mologous_to at level of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trapod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imb + evidence + c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41160" y="3124080"/>
            <a:ext cx="1143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440000" y="1260360"/>
            <a:ext cx="784224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roaches to capturing homology – data form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O 1.2 format does not allow references and evidence codes to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tured for relationships, although OBO 1.3 w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fore – there is a good case for capturing this information separately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flat file (tsv) for now.  This is what the nescent/cTOL project is do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ame argument applies, no matter what the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70000"/>
            <a:ext cx="9069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O 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640" y="1649520"/>
            <a:ext cx="469908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a classification of things 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in the real world, based on some biologically significant simila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ationships between in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ightforward - each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just one th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left index finger i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y left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24360" y="971640"/>
            <a:ext cx="35816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270000"/>
            <a:ext cx="9069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O 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1640" y="1649520"/>
            <a:ext cx="469908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a classification of things 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in the real world, based on some biologically significant simila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ationships between in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ightforward - each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just one th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left index finger i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y left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ationships between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ere can be m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 a relationship betwee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yp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pply to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jus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se instan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24360" y="971640"/>
            <a:ext cx="35816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27000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sic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8200" y="2340000"/>
            <a:ext cx="181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60720" y="1136520"/>
            <a:ext cx="5940360" cy="552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61960" y="539640"/>
            <a:ext cx="69944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y we build anatomy ont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0720" y="1440000"/>
            <a:ext cx="845964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in use cas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notation of gene expression and phenotypes (MODs and other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need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 Terms with written defin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&gt; consistent annotation despite variant usage of terminology in litera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 Careful use of logically defined rel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&gt; allowing annotations with related terms to be grouped in biologically meaningful w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case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A controlled system for recording character matrices for use in homology calls (cTOL/Nescen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79640" y="733320"/>
            <a:ext cx="56196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ing annotations using an anatomy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979640"/>
            <a:ext cx="656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RY: list all axon tracts which are part of the adult midbr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2471760"/>
            <a:ext cx="6035760" cy="2927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40360" y="4859280"/>
            <a:ext cx="1440000" cy="10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558000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73720" y="6119640"/>
            <a:ext cx="36259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all alleles causing ph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se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0120" y="6300720"/>
            <a:ext cx="4619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all genes expressed in these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79640" y="733320"/>
            <a:ext cx="56196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ing annotations using an anatomy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0160" y="1800360"/>
            <a:ext cx="650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RY: list all neurons which develop from neuroblast NB 7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0360" y="4859280"/>
            <a:ext cx="1440000" cy="10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575928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73720" y="6119640"/>
            <a:ext cx="36259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all alleles causing ph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se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0120" y="6659640"/>
            <a:ext cx="4619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all genes expressed in these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19120" y="2340000"/>
            <a:ext cx="59594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weyB</dc:creator>
  <dc:description/>
  <dc:language>en-US</dc:language>
  <cp:lastModifiedBy>DeweyB</cp:lastModifiedBy>
  <cp:revision>0</cp:revision>
  <dc:subject/>
  <dc:title/>
</cp:coreProperties>
</file>